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14AB0-021F-4865-82C2-CAA29EACE7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D7C38-0F6C-4F03-91BF-B0EDDA5FE8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06E95-042D-4AB6-9877-DFBC6EF511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648DE-3DEF-48A0-8535-51269A586D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B27C32-9B7F-4610-90E3-8F1877FFC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37F227-7AAD-4CD7-90D6-CEAA02CC4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3E06B4-AB5A-4209-9A3C-4DFAFADEC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DF41B7-36B9-4BCA-AF3A-5ECDF11EF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8825F4-73E4-4095-ABAA-316E9A7AC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056C67-0955-4135-90B5-48794725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AC8285-EA41-4B84-81BB-71DA28B4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B0E65-2256-4FBF-9498-EF1D10252D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A5EAD5-C27D-4D30-BA5A-A3A214A7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695EC5-AB28-4B52-B65B-CF207600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423F64-4017-4A6D-9569-00CB70094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3365EC-B8E8-4788-B8AD-DF25CAB9B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542C28-9CDF-4357-B7F1-5079A733A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E1647-8D9F-4215-8C98-7499470B2D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20834-1084-435A-831A-92A565844C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1A6DD-E444-4080-8843-DB969C3ABE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63326-AFBC-464C-8731-4FC66140A9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DD61D-0E2B-4D24-B739-049948F2AB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18240-9D39-4A02-B511-B3764DABAD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BBEFD-59CA-4245-B4EE-4AC8AF1A5F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926C3-1EC5-4D7F-9334-4EE47246B8F0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00EF6-31F2-4786-A51E-7374008896CC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B8ED8-EED0-43D7-9B59-C6C6796727E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261F8-2C6E-4E15-BDDE-C17F2B36A0D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F8A39-8A46-47C0-A8A9-9CCE506D7DF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B2F3A-797D-454C-90EB-437A83BDB3C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111DE-DF20-4AE1-B092-CD196182E86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4EA05-584D-461E-B48B-4BD0985D4E1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DD158-443E-4B39-9424-5710136300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DD7A1-B3BD-48E2-8EE0-2649EFC03E0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F4CF9-7CB6-4D94-A7C9-C412F44D06C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F8B57-0AE1-4AB0-BB4A-1328F52C81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F621F-8582-4AD2-9EF9-E3814C3595E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EE216-B6DF-4553-B0FC-18AAF5D3BF4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4DF87-D411-4405-9847-F026602B592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62481-C36B-4357-86A0-B7B8E0D9AB5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05T23:33:15Z</dcterms:modified>
  <cp:revision>164</cp:revision>
  <dc:subject/>
  <dc:title>minSpline: An R Package For Minimal Knot Splines</dc:title>
</cp:coreProperties>
</file>